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7.jpeg" ContentType="image/jpeg"/>
  <Override PartName="/ppt/media/image12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11.jpeg" ContentType="image/jpeg"/>
  <Override PartName="/ppt/media/image5.jpeg" ContentType="image/jpeg"/>
  <Override PartName="/ppt/media/image8.jpeg" ContentType="image/jpe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296F-9B4D-496B-9822-D89F0AE4A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02EA-A500-42FB-9261-E3009476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79A8-FEEC-42A3-B9E2-3977476C1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2012-3D27-4B0B-8A7F-0D4C492CA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F358-E19D-427C-9CE9-E769AB224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B697-CE87-450B-B8CD-C4DF46FB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4B450-541A-4A0D-8308-38B25F86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839A-60D8-42AF-82F9-E29F777B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7327-2C87-4B21-939F-2973BEB1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14D8-2701-4E14-BE64-79DE09F2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A30A-FF29-456E-9475-8DD68B6D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2489-4AF3-4695-BD27-BFE9BF1F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F333-7C5C-4CB5-84CC-1B7B7E71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DAF38-FA49-400E-A6A2-AEB56731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8CBF-AAE6-44E1-836C-5233BD5E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EC93-E910-4AFE-9477-53E91FAF6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C2A7-5DD7-402B-931A-FFD415E67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6FF5-FFA1-483F-BF3C-18094D2D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CE0A-68DA-4BA0-BCC3-2171E768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6FBC-F2CE-4CE6-9791-F69EA59E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04B4-C7BA-4FF6-BEB3-F3E3C6AB5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782B-67B2-439A-867A-FCFBBEB2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B525-2FF8-4B74-9F42-2709D302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A0B8-2169-4636-8E51-BED9A6B5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82CE-1BBA-429F-A205-C57A6BF14C6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8BEB-A053-420D-B541-1879366AB5D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5"/>
          <p:cNvSpPr txBox="1"/>
          <p:nvPr/>
        </p:nvSpPr>
        <p:spPr>
          <a:xfrm>
            <a:off x="0" y="928800"/>
            <a:ext cx="4500720" cy="156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Геопатоген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7" name="WordArt 6"/>
          <p:cNvSpPr txBox="1"/>
          <p:nvPr/>
        </p:nvSpPr>
        <p:spPr>
          <a:xfrm>
            <a:off x="3357720" y="2143080"/>
            <a:ext cx="136512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13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о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8" name="WordArt 7"/>
          <p:cNvSpPr txBox="1"/>
          <p:nvPr/>
        </p:nvSpPr>
        <p:spPr>
          <a:xfrm>
            <a:off x="5072040" y="3500280"/>
            <a:ext cx="1571760" cy="80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илищ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ыход есть – геопатогенное излучение приводит к заболеваниям только при длительном ( годы ) воздействии во время сна или на рабочем месте. Перемещение в безопасное место внутри помещения кровати или рабочего стола является профилактическим мероприятием не требующим дополнительных затрат на лекарственные препараты, или использования дорогостоящего медицинского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борудования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и строительстве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еобходимо выбирать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место под застройку таким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бразом, чтобы геопатогенно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оздействие на людей было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минимальным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Picture 5" descr="MPj04330000000[1]"/>
          <p:cNvPicPr/>
          <p:nvPr/>
        </p:nvPicPr>
        <p:blipFill>
          <a:blip r:embed="rId1"/>
          <a:stretch/>
        </p:blipFill>
        <p:spPr>
          <a:xfrm>
            <a:off x="428760" y="4714920"/>
            <a:ext cx="321444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гадка природ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ы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нимали когда-то, лет 50 назад, дачу в деревне, в 120 км от Ленинграда (ст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редеж). В этой деревне был дом, в котором постоянно болели и умирали его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битатели. После того как там умерло одно за другим уже несколько семейств, со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тариками и детьми, дом бросили, и он как-то очень быстро развалился и ушел в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землю. Для всех было очевидно, что все происшедшее обусловлено действием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ечистой силы, и уход дома в грунт служил дополнительным тому доказательством.  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меры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Так, в Екатеринбурге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зафиксировано всего 4 случая заболевания одной редкой разновидностью болезни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ауна, причем 3 из них - проживают в одном доме. По-видимому, наличие столь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едкого заболевания в одном доме связано с наличием под этим домом геопатогеной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зоны. Проверка этой гипотезы будет осуществлена в самое ближайшее время учеными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тдела прогнозирования техногенных катастроф УрАН, которые начали эксплуатацию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етода ССП.  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еопатогенные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ны - это очень серьезная проблема, и для научного решения ее нужно привлечь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циалистов различных профилей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Мы с дедом исследуем геопатогенные зоны в дом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3" name="Picture 4" descr="100_1584"/>
          <p:cNvPicPr/>
          <p:nvPr/>
        </p:nvPicPr>
        <p:blipFill>
          <a:blip r:embed="rId1"/>
          <a:stretch/>
        </p:blipFill>
        <p:spPr>
          <a:xfrm>
            <a:off x="2071800" y="2428920"/>
            <a:ext cx="436536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952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давних пор известно, что в домах построенных на месте бывших водоемов, высохших рек, на пойменных местах, в оврагах наблюдались удивительные явления - привидения, призраки, домовые, то есть имели место различные галлюцинации, люди жившие в таких "проклятых домах" чаще болели онкологическими заболеваниями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Picture 4" descr="антон 114"/>
          <p:cNvPicPr/>
          <p:nvPr/>
        </p:nvPicPr>
        <p:blipFill>
          <a:blip r:embed="rId1"/>
          <a:stretch/>
        </p:blipFill>
        <p:spPr>
          <a:xfrm>
            <a:off x="-79200" y="0"/>
            <a:ext cx="9223200" cy="1214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антон 18"/>
          <p:cNvPicPr/>
          <p:nvPr/>
        </p:nvPicPr>
        <p:blipFill>
          <a:blip r:embed="rId2"/>
          <a:stretch/>
        </p:blipFill>
        <p:spPr>
          <a:xfrm>
            <a:off x="0" y="1214280"/>
            <a:ext cx="7142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середине ХХ века этим явлениям было найдено наконец научное объяснение. Было доказано, что онкологические, психические и некоторые другие заболевания были обусловлены тем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 их спальные места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ходились в так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зываемо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геопатогенной зоне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7" descr="антон 2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1000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MPj04304650000[1]"/>
          <p:cNvPicPr/>
          <p:nvPr/>
        </p:nvPicPr>
        <p:blipFill>
          <a:blip r:embed="rId2"/>
          <a:stretch/>
        </p:blipFill>
        <p:spPr>
          <a:xfrm>
            <a:off x="6072120" y="428616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Геопатогенные зоны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представляют собой локальные геофизические аномалии в виде слабых электромагнитных полей Земли естественного происхождения. Вся поверхность земного шара покрыта сетками электромагнитных линий шириной около 10 см и шагом ячейки 2,5х2 м – сеть Хартмана, 5х6 м - сеть Курри, 16х16 м и т.д. Эти сетки, накладываясь друг на друга, создают сложную картину геофизических аномалий на поверхности Земли, а в точках их пересечения образуются небольшие очаги размером 10х10 см, где интенсивность излучения резко возрастает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5" descr="антон 16"/>
          <p:cNvPicPr/>
          <p:nvPr/>
        </p:nvPicPr>
        <p:blipFill>
          <a:blip r:embed="rId1"/>
          <a:stretch/>
        </p:blipFill>
        <p:spPr>
          <a:xfrm>
            <a:off x="2000160" y="4643280"/>
            <a:ext cx="6032520" cy="10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6346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Если такие </a:t>
            </a: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геопатогенные пересечения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 располагаются над водяными жилами или разломами земной коры, то образуются аномальные зоны, длительное нахождение в которых (расположение рабочих или спальных мест), способствуют ухудшению здоровья и развитию тяжелых заболеваний, таких как рак, склероз, артроз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820908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Геопатогенные зоны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бывают двух видов –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естественного происхождения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бычно связанные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 пустотами, водными потоками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месторождениями полезных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скопаемых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другой вид это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зоны техногенного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оисхождения, связанные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 деятельностью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человека - подземные ходы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метро, шахты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трубопроводы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абельные сети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валки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Picture 4" descr="MPj02893360000[1]"/>
          <p:cNvPicPr/>
          <p:nvPr/>
        </p:nvPicPr>
        <p:blipFill>
          <a:blip r:embed="rId1"/>
          <a:stretch/>
        </p:blipFill>
        <p:spPr>
          <a:xfrm>
            <a:off x="6715080" y="2786040"/>
            <a:ext cx="1795680" cy="26622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MPj02160140000[1]"/>
          <p:cNvPicPr/>
          <p:nvPr/>
        </p:nvPicPr>
        <p:blipFill>
          <a:blip r:embed="rId2"/>
          <a:stretch/>
        </p:blipFill>
        <p:spPr>
          <a:xfrm>
            <a:off x="4143240" y="4500720"/>
            <a:ext cx="2571840" cy="1728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MPj04333800000[1]"/>
          <p:cNvPicPr/>
          <p:nvPr/>
        </p:nvPicPr>
        <p:blipFill>
          <a:blip r:embed="rId3"/>
          <a:stretch/>
        </p:blipFill>
        <p:spPr>
          <a:xfrm>
            <a:off x="214200" y="428760"/>
            <a:ext cx="207180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61308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им образом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геопатогенные воздействия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представляют большую опасность для здоровья и должны учитываться в нашей повседневной жизни вместе с другими экологическими фактора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Picture 4" descr="антон 7"/>
          <p:cNvPicPr/>
          <p:nvPr/>
        </p:nvPicPr>
        <p:blipFill>
          <a:blip r:embed="rId1"/>
          <a:stretch/>
        </p:blipFill>
        <p:spPr>
          <a:xfrm rot="16200000">
            <a:off x="4393440" y="1178280"/>
            <a:ext cx="214200" cy="900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404640"/>
            <a:ext cx="649116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 основании проведенной работы были сделаны следующие выводы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реанимационных отделениях и отделении недоношенных грудных детей - дети находящиеся в геопатогенных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онах медленнее восстанавливаютс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чаще болезнь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канчивается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етальным исходом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нахождение ребенка в геопатогенной зоне приводит к ухудшению сна и аппетита, повышенному беспокойству, и как следствие к задержке в развитии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ительное нахождение ребенка в геопатогенной зоне может привести к серьезным заболевания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12:00:38Z</dcterms:created>
  <dc:creator>oem</dc:creator>
  <dc:description/>
  <dc:language>en-US</dc:language>
  <cp:lastModifiedBy>Administrator</cp:lastModifiedBy>
  <dcterms:modified xsi:type="dcterms:W3CDTF">2009-01-16T10:35:24Z</dcterms:modified>
  <cp:revision>20</cp:revision>
  <dc:subject/>
  <dc:title>Геопатогенные зоны</dc:title>
</cp:coreProperties>
</file>